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1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8C62D-C72C-42EE-89A4-8874A525C62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2214E-BA2A-47FC-8497-CA05D27AC64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1520F-B960-4324-BB79-F7D8C92D24C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6950A-67E2-4202-A584-D04D277255B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5C344-6385-4FB2-8B5A-280B083E820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A5756-500F-4D75-9EAF-08A693F63A4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652DD-9721-4605-9CF0-6A52ACF9C4A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8A721-3670-45C8-A849-29603AD33AF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B6F70-1ECC-4A56-9378-F2A5A7C4D27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A4950-FF28-4A79-A497-DDD40231E99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B0AAB-617F-4299-A4D8-79E4ED09AD3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AD9BC-EF9F-46DA-84E3-AD6F7C1C6AC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D3855-9781-4329-B9C9-F1BD9B2BB1F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D5C-D209-4ECF-8CC1-984823C3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284-D0A2-44FD-942A-4F904823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7D6-31DB-469C-AAE4-426167E6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98C-C12B-43A6-BEE3-BFFC7519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6B2-6291-49FC-808D-06E65CFA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574-83FD-4144-A2E0-98664D06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D62-437A-4FEE-B2B0-5462E22F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63D-91B2-4BA9-9A0F-A0134BF8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83B-D598-493A-B46F-6D56E02C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95C-BC24-48ED-980F-0BF65256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B5D-0D14-4E88-83BB-5B5FF0DB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BB6-AEE3-4708-B713-74237814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BFB69E-CC70-494C-AC48-7AD1B96416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440" y="493200"/>
            <a:ext cx="73184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ocesy a  pravidla </a:t>
            </a: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realizace projektu</a:t>
            </a:r>
            <a:br>
              <a:rPr sz="4400"/>
            </a:br>
            <a:br>
              <a:rPr sz="4400"/>
            </a:br>
            <a:r>
              <a:rPr b="1" lang="cs-CZ" sz="2800" spc="-1" strike="noStrike">
                <a:solidFill>
                  <a:srgbClr val="f3912c"/>
                </a:solidFill>
                <a:latin typeface="Arial"/>
              </a:rPr>
              <a:t>Ing. Marie Kaufnerová</a:t>
            </a:r>
            <a:br>
              <a:rPr sz="2800"/>
            </a:br>
            <a:br>
              <a:rPr sz="2800"/>
            </a:br>
            <a:r>
              <a:rPr b="1" lang="cs-CZ" sz="1600" spc="-1" strike="noStrike">
                <a:solidFill>
                  <a:srgbClr val="f3912c"/>
                </a:solidFill>
                <a:latin typeface="Arial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datum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B0EA4-A10A-478D-B377-2EE15114F6B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obsah 7"/>
          <p:cNvSpPr/>
          <p:nvPr/>
        </p:nvSpPr>
        <p:spPr>
          <a:xfrm>
            <a:off x="1897200" y="2136600"/>
            <a:ext cx="778644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 krajním případě odstoupit od právního aktu  OKAMŽITĚ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bezdůvodně, dlouhodobě a opakovaně neplní některou z povinností uvedených v právním aktu (např. dodávání MZ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v úpadku nebo v likvid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změní právní formu, aniž by to doložil poskytovatel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trola zjistí finanční podvody či jiná nekalá jednání příjem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tární orgán či zaměstnanec příjemce se dopustí trestného činu, jehož skutková podstata souvisí s realizací projektu, a je za to pravomocně odsouz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jekt nesplňuje podmínky, za nichž byla finanční podpora přidělena, a příjemce nenavrhne jeho uspokojivou modifik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oupení PÍSEMNĚ, účinné dnem doručení příjemci, ruší se právní ak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6D477-3D3E-4DC1-BDCB-B0875C1FD90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62B9D-4A5E-4E36-8F1A-967EDCC04B7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5"/>
          <p:cNvSpPr/>
          <p:nvPr/>
        </p:nvSpPr>
        <p:spPr>
          <a:xfrm>
            <a:off x="2182680" y="2637000"/>
            <a:ext cx="471492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lší možnost – zrušení DOHOD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sí být písemné s uvedením důvodů, které vedly k ukončení účinnosti právního aktu včetně vzájemného vypořádání práv a závaz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Nadpis 5"/>
          <p:cNvSpPr/>
          <p:nvPr/>
        </p:nvSpPr>
        <p:spPr>
          <a:xfrm>
            <a:off x="1754280" y="636480"/>
            <a:ext cx="7740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22B45-3A72-45DB-B435-EA7A2E78CD6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C:\Documents and Settings\kaufnerovam\Local Settings\Temporary Internet Files\Content.IE5\1ZMAVU8U\MCj04398210000[1].png"/>
          <p:cNvPicPr/>
          <p:nvPr/>
        </p:nvPicPr>
        <p:blipFill>
          <a:blip r:embed="rId2"/>
          <a:stretch/>
        </p:blipFill>
        <p:spPr>
          <a:xfrm>
            <a:off x="4479840" y="491004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EF17C-6C92-4172-9FD7-2E24EF2F564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bdélník 5"/>
          <p:cNvSpPr/>
          <p:nvPr/>
        </p:nvSpPr>
        <p:spPr>
          <a:xfrm>
            <a:off x="2397240" y="1851120"/>
            <a:ext cx="62150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y proti postupu ŘO – možno podat do 15 pracovních dní od okamžiku doručení písemného vyrozum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Zasla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6 CERA – Implementace projektů strukturálních fon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nebudete spokojeni s řešením vaší námitky  odborem 46, můžete se poté obrátit 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1 – Odbor řízení OP VK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, který provede proše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     </a:t>
            </a: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a či její prošetření, by mělo být provedeno během 15 pracovních dní, u složitých případů do 20 pracovních 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Námitky a jejich řeš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CDB9F-D4E2-4929-903A-4CEB6E623C7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kaufnerovam\Local Settings\Temporary Internet Files\Content.IE5\0C5TUC9H\MCj04398240000[1].png"/>
          <p:cNvPicPr/>
          <p:nvPr/>
        </p:nvPicPr>
        <p:blipFill>
          <a:blip r:embed="rId2"/>
          <a:stretch/>
        </p:blipFill>
        <p:spPr>
          <a:xfrm>
            <a:off x="8136000" y="42800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A8B1B-DA39-48B8-972C-708E30233C8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bdélník 5"/>
          <p:cNvSpPr/>
          <p:nvPr/>
        </p:nvSpPr>
        <p:spPr>
          <a:xfrm>
            <a:off x="1539720" y="1851120"/>
            <a:ext cx="77155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800" spc="-1" strike="noStrike">
                <a:solidFill>
                  <a:srgbClr val="262626"/>
                </a:solidFill>
                <a:latin typeface="Arial"/>
                <a:ea typeface="Lucida Sans Unicode"/>
              </a:rPr>
              <a:t>Příjemce je povinen všechny nově vytvořené produkty předat do vlastnictví poskytovatele, který je oprávněn je volně a bezplatně  šířit v časově, územně a množstevně neomezeném rozsa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je držitelem takových práv duševního vlastnictví vzniklých na základě zakázky jiná osoba než příjemce dotace, je příjemce dotace povinen ve smlouvě uzavřené s dodavatelem zajistit pro poskytovatele neomezenou bezplatnou licenci k využití těchto práv včetně možnosti  zcela nebo z části poskytnout třetí osobě oprávn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utorská prá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731D5-C98F-46D7-A12B-FDD862958F0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2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yvarovat se diskreditace cílové skupiny a tím i projektu samotné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vhodné si zajistit souhlas cílové skupiny s informováním  o aktivitách projektu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301760"/>
            <a:ext cx="1143000" cy="15001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EDDC2-41FE-4BE6-B73E-B183C2CF3A9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6469200" y="670860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vinnost příjemce vést evidenci cílové skupiny účastnící se akcí projektu (například prezenční listiny, seznamy, přihlášky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nezletilých osob zvážit zda není potřeba souhlas zákonného zástupce s účastí v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sp>
        <p:nvSpPr>
          <p:cNvPr id="136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16E25-E578-4977-81AB-5011B4F4CE1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8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při zajišťování a evidenci osobních údajů postupovat v souladu se zákonem č.101/2000 Sb., o ochraně osobních údajů (zajistit souhlas evidovaných osob či jejich zákonných zástupců s jejich využitím a způsobem využití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 Individuální projekty kde se poskytnutí fin. pomoci řídí zákonem č. 218/2000 Sb. o rozpočtových pravidlech (poskytovatel dotace vydá písemné rozhodnutí formou právního aktu, který zavazuje příjemce k naplňování monitorovacích indikátorů a jejich dokladování) není povinnost oznamovat zpracování osobních údajů Úřadu pro ochranu osobních údajů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D8867-26F1-44E2-9377-12CF31E4CBE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96840" y="850680"/>
            <a:ext cx="604836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6400" y="2851200"/>
            <a:ext cx="7564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. Marie Kaufn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 – oblast podpory 1.1 Zvyšování kvality ve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 46 -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mail: marie.kaufner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9863F-C113-49BA-A75B-6E39D92B0AE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obsah 7"/>
          <p:cNvSpPr/>
          <p:nvPr/>
        </p:nvSpPr>
        <p:spPr>
          <a:xfrm>
            <a:off x="1897200" y="1208160"/>
            <a:ext cx="76690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akceptace Rozhodnu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zdější datum uvedené v projektové žád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uvedené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způsobilé se považují pouze výdaje vzniklé během realizace tj. mezi těmito da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7FB10-D521-47A5-BC27-961BB31FE90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Nadpis 1"/>
          <p:cNvSpPr/>
          <p:nvPr/>
        </p:nvSpPr>
        <p:spPr>
          <a:xfrm>
            <a:off x="6397560" y="691668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Nadpis 5"/>
          <p:cNvSpPr/>
          <p:nvPr/>
        </p:nvSpPr>
        <p:spPr>
          <a:xfrm>
            <a:off x="1897200" y="422280"/>
            <a:ext cx="7929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tná změna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žná pouze v řádně odůvodněných a schválených případ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 data zahájení projektu do data ukonč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 datu ukončení pouze audit a mzdy pracovníků projektu za poslední měsíc realizace, vyúčtování zál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AEC2E-6DE7-45DD-AECA-9B389917E8A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Zástupný symbol pro obsah 7"/>
          <p:cNvSpPr/>
          <p:nvPr/>
        </p:nvSpPr>
        <p:spPr>
          <a:xfrm>
            <a:off x="196848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edena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i poskytovatel podpory jsou oprávněni ukončit práci na projektu a jeho financování avšak pouze ze závažných důvod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496C5-2682-42B3-B22D-9F4C7943833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Documents and Settings\kaufnerovam\Local Settings\Temporary Internet Files\Content.IE5\RO1OPC4G\MCj04397990000[1].png"/>
          <p:cNvPicPr/>
          <p:nvPr/>
        </p:nvPicPr>
        <p:blipFill>
          <a:blip r:embed="rId2"/>
          <a:stretch/>
        </p:blipFill>
        <p:spPr>
          <a:xfrm>
            <a:off x="6413400" y="1339920"/>
            <a:ext cx="191304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obsah 7"/>
          <p:cNvSpPr/>
          <p:nvPr/>
        </p:nvSpPr>
        <p:spPr>
          <a:xfrm>
            <a:off x="1897200" y="1565280"/>
            <a:ext cx="766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ísemně k rukám poskytovatele formou návrhu na změnu právního aktu s novým datem ukonč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nejvýše dvouměsíční lhůtou uzavř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akceptace změnového právního aktu (Rozhodnutí o změně Rozhodnutí) začíná běžet lhůta pro uzavř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kud byl projekt financován v režimu zálohování  - odděleně evidovat výdaje uskutečněné po dni odeslání návrhu na ukončení projektu. Vyúčtování těchto výdajů (pokud nebudou řádně zdůvodněny v komentáři přiloženém k vyúčtování) nemusí být poskytovatelem  podpory akceptová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8510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5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F649D-3122-4B02-82AE-4F0402823F8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7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porušení podmínek právního aktu (nedodržení podmínek pro předčasné ukončení projekt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vrátit neoprávněně vyplacené prostředky v plné výši a ve lhůtě stanovené poskytovat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8112240" y="2922480"/>
            <a:ext cx="1447560" cy="133056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271DA-72BD-4F36-994F-5CD0CEC0376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3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je  při podezření na porušení rozpočtové kázně či porušení dalších povinností uvedených v právním aktu o poskytnutí podpory oprávně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vyzvat příjemce k okamžité nápravě zjištěných nedostatků a stanovit lhůty k nápra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preventivně pozastavit platby příjemci podp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20824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0657F-0B25-4CEF-BB80-371CE75B52A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obsah 7"/>
          <p:cNvSpPr/>
          <p:nvPr/>
        </p:nvSpPr>
        <p:spPr>
          <a:xfrm>
            <a:off x="1897200" y="1636560"/>
            <a:ext cx="76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ypovědět právní akt o poskytnutí podpory pokud nedojde k nápravě zjištěných nedostatků ve stanovené lhůtě a to  s dvouměsíční výpovědní lhůtou na ukonč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árok příjemce na proplacení odpovídající části způsobilých výdajů bude posuzován poskytovatelem individuál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rátit do 20 pracovních dní od ukončení projektu( přes zřizovatele - 20 prac. d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F6E13-2CFC-4201-AF8C-4EFFAC1FA13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Řízení o odnětí podpory může být zahájeno pokud došlo k porušení pravidel zákona č. 218/2000 Sb. O rozpočtových pravidl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k vázání prostředků státního rozpoč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ke zjištění, že podpora byla poskytnuta na základě neúplných či nepravdivých úda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právní akt byl vydán v rozporu se zákonem či právem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nemůže být řádně či včas splněn účel dot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56009-1BA7-493A-B86F-1E17A9CE5AD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Documents and Settings\kaufnerovam\Local Settings\Temporary Internet Files\Content.IE5\SUKH4R2G\MCj04398220000[1].png"/>
          <p:cNvPicPr/>
          <p:nvPr/>
        </p:nvPicPr>
        <p:blipFill>
          <a:blip r:embed="rId2"/>
          <a:stretch/>
        </p:blipFill>
        <p:spPr>
          <a:xfrm>
            <a:off x="7362720" y="117324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4:43:31Z</dcterms:modified>
  <cp:revision>102</cp:revision>
  <dc:subject/>
  <dc:title>Snímek 1</dc:title>
</cp:coreProperties>
</file>